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B6E-1CBB-4524-9539-88A60588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585-1E08-4F15-8253-7FFAB2AF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097-F2F6-456A-AE21-5FA133FA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C64-2EE6-42E4-9ED4-7BC8AC04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98B2-DAC0-45CD-BFA8-03A0C4A9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DABF-B284-440C-B5D1-2BD189A6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FBD7-912D-43EB-8C88-D0F83708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5E70-57B2-4235-A216-C2A3B432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C4BE-E5BE-437E-8495-A9ED0D13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1E38-87E6-4C8C-8C09-7622BF0F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F9DE-DE5E-447B-AFD3-2D962490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F4C-6063-4B6E-B44A-CC8F36E1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6283-1B1A-4D5E-A033-3CA8F81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5AFD-9E86-4C0B-9EF2-0BFF0FA0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3771-782A-42ED-8C60-2023330F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106A-BD82-45CB-AC3B-4228E169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5B65-9FF8-4857-B4C6-EE2D3F94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A17-D890-4343-9268-E954307F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637-B5B4-4FE0-945C-D6C13B41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F04-62F2-446E-B542-0CDD71F6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244-29C7-4772-8E48-51A1F2FF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0AE-6054-41B5-924F-ABCE1864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955-49B4-4ECA-96E6-61E019E5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4EB-A879-44EE-892F-D3D5B5E2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1257-7E0C-4D36-8DDD-1F364DB1E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D90E-92E2-4DD0-843F-D90F84CDD1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838080" y="609480"/>
            <a:ext cx="77724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oultry Judging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nterior Egg Qual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981080" y="4800600"/>
            <a:ext cx="6782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reated by Connie P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manuel County Extension Ag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.O. Box 7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29 N. Anderson Dr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wainsboro, GA  304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78-237-1226 FAX 478-237-845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niep@uga.ed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ril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practice1egg12"/>
          <p:cNvPicPr/>
          <p:nvPr/>
        </p:nvPicPr>
        <p:blipFill>
          <a:blip r:embed="rId1"/>
          <a:stretch/>
        </p:blipFill>
        <p:spPr>
          <a:xfrm>
            <a:off x="1066680" y="2438280"/>
            <a:ext cx="39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66720" y="244440"/>
            <a:ext cx="4575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00600" y="2209680"/>
            <a:ext cx="3927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Cell = 3/8 i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lk Shadow = Plainly 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695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673360" cy="352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2681280" cy="3562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592360" cy="3581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ide by Side Compari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298160" y="526104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253400" y="5221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7317360" y="5184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Score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7960" y="2666520"/>
            <a:ext cx="3786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g numbers run ver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eggs-candling scorecard"/>
          <p:cNvPicPr/>
          <p:nvPr/>
        </p:nvPicPr>
        <p:blipFill>
          <a:blip r:embed="rId1"/>
          <a:stretch/>
        </p:blipFill>
        <p:spPr>
          <a:xfrm>
            <a:off x="1143000" y="1447920"/>
            <a:ext cx="3127320" cy="4562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057400" y="3962520"/>
            <a:ext cx="30492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Score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2880" y="2438280"/>
            <a:ext cx="3786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correct quality grade across from the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eggs-candling scorecard"/>
          <p:cNvPicPr/>
          <p:nvPr/>
        </p:nvPicPr>
        <p:blipFill>
          <a:blip r:embed="rId1"/>
          <a:stretch/>
        </p:blipFill>
        <p:spPr>
          <a:xfrm>
            <a:off x="1143000" y="1447920"/>
            <a:ext cx="3127320" cy="4562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16200000">
            <a:off x="2705040" y="3162240"/>
            <a:ext cx="38088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Score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800240" y="1981080"/>
            <a:ext cx="3786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in the  circle underneath the grade you cho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that  every number has one answer &amp; you do not have two answers in the same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eggs-candling scorecard"/>
          <p:cNvPicPr/>
          <p:nvPr/>
        </p:nvPicPr>
        <p:blipFill>
          <a:blip r:embed="rId1"/>
          <a:stretch/>
        </p:blipFill>
        <p:spPr>
          <a:xfrm>
            <a:off x="1143000" y="1447920"/>
            <a:ext cx="3127320" cy="4562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590920" y="38098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6" descr="practice1egg6"/>
          <p:cNvPicPr/>
          <p:nvPr/>
        </p:nvPicPr>
        <p:blipFill>
          <a:blip r:embed="rId1"/>
          <a:stretch/>
        </p:blipFill>
        <p:spPr>
          <a:xfrm>
            <a:off x="762120" y="1371600"/>
            <a:ext cx="4448160" cy="43909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7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Ined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Picture 6" descr="practice1egg2"/>
          <p:cNvPicPr/>
          <p:nvPr/>
        </p:nvPicPr>
        <p:blipFill>
          <a:blip r:embed="rId1"/>
          <a:stretch/>
        </p:blipFill>
        <p:spPr>
          <a:xfrm>
            <a:off x="609480" y="1523880"/>
            <a:ext cx="3911760" cy="4496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6" name="Picture 6" descr="practice1egg12"/>
          <p:cNvPicPr/>
          <p:nvPr/>
        </p:nvPicPr>
        <p:blipFill>
          <a:blip r:embed="rId1"/>
          <a:stretch/>
        </p:blipFill>
        <p:spPr>
          <a:xfrm>
            <a:off x="152280" y="1295280"/>
            <a:ext cx="441828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0" name="Picture 6" descr="practice1egg3"/>
          <p:cNvPicPr/>
          <p:nvPr/>
        </p:nvPicPr>
        <p:blipFill>
          <a:blip r:embed="rId1"/>
          <a:stretch/>
        </p:blipFill>
        <p:spPr>
          <a:xfrm>
            <a:off x="457200" y="1371600"/>
            <a:ext cx="3995640" cy="4495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Ined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4" name="Picture 6" descr="practice1egg13"/>
          <p:cNvPicPr/>
          <p:nvPr/>
        </p:nvPicPr>
        <p:blipFill>
          <a:blip r:embed="rId1"/>
          <a:stretch/>
        </p:blipFill>
        <p:spPr>
          <a:xfrm>
            <a:off x="228600" y="1219320"/>
            <a:ext cx="4410000" cy="4238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Cand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5" descr="production7"/>
          <p:cNvPicPr/>
          <p:nvPr/>
        </p:nvPicPr>
        <p:blipFill>
          <a:blip r:embed="rId1"/>
          <a:stretch/>
        </p:blipFill>
        <p:spPr>
          <a:xfrm>
            <a:off x="762120" y="2057400"/>
            <a:ext cx="295092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143720" y="510552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Egg F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candling"/>
          <p:cNvPicPr/>
          <p:nvPr/>
        </p:nvPicPr>
        <p:blipFill>
          <a:blip r:embed="rId2"/>
          <a:stretch/>
        </p:blipFill>
        <p:spPr>
          <a:xfrm>
            <a:off x="4114800" y="1828800"/>
            <a:ext cx="4648320" cy="3147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4112640" y="5105520"/>
            <a:ext cx="45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4-H Judging Con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d only ONE egg at th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8" name="Picture 6" descr="practice1egg5"/>
          <p:cNvPicPr/>
          <p:nvPr/>
        </p:nvPicPr>
        <p:blipFill>
          <a:blip r:embed="rId1"/>
          <a:stretch/>
        </p:blipFill>
        <p:spPr>
          <a:xfrm>
            <a:off x="380880" y="1295280"/>
            <a:ext cx="39988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Ined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2" name="Picture 6" descr="practice3egg4"/>
          <p:cNvPicPr/>
          <p:nvPr/>
        </p:nvPicPr>
        <p:blipFill>
          <a:blip r:embed="rId1"/>
          <a:stretch/>
        </p:blipFill>
        <p:spPr>
          <a:xfrm>
            <a:off x="533520" y="1447920"/>
            <a:ext cx="4114800" cy="3911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6" name="Picture 6" descr="practice3egg12"/>
          <p:cNvPicPr/>
          <p:nvPr/>
        </p:nvPicPr>
        <p:blipFill>
          <a:blip r:embed="rId1"/>
          <a:stretch/>
        </p:blipFill>
        <p:spPr>
          <a:xfrm>
            <a:off x="990720" y="1523880"/>
            <a:ext cx="3609720" cy="3781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655308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0" name="Picture 6" descr="practice3egg14"/>
          <p:cNvPicPr/>
          <p:nvPr/>
        </p:nvPicPr>
        <p:blipFill>
          <a:blip r:embed="rId1"/>
          <a:stretch/>
        </p:blipFill>
        <p:spPr>
          <a:xfrm>
            <a:off x="533520" y="1371600"/>
            <a:ext cx="3902040" cy="4038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6553080" y="12952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6" descr="practice3egg9"/>
          <p:cNvPicPr/>
          <p:nvPr/>
        </p:nvPicPr>
        <p:blipFill>
          <a:blip r:embed="rId1"/>
          <a:stretch/>
        </p:blipFill>
        <p:spPr>
          <a:xfrm>
            <a:off x="457200" y="1371600"/>
            <a:ext cx="4038480" cy="39196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6248520" y="12193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8" name="Picture 6" descr="practice1egg7"/>
          <p:cNvPicPr/>
          <p:nvPr/>
        </p:nvPicPr>
        <p:blipFill>
          <a:blip r:embed="rId1"/>
          <a:stretch/>
        </p:blipFill>
        <p:spPr>
          <a:xfrm>
            <a:off x="685800" y="1600200"/>
            <a:ext cx="3857760" cy="3552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6553080" y="12952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4648320" y="24382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de =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2" name="Picture 6" descr="practice1egg16"/>
          <p:cNvPicPr/>
          <p:nvPr/>
        </p:nvPicPr>
        <p:blipFill>
          <a:blip r:embed="rId1"/>
          <a:stretch/>
        </p:blipFill>
        <p:spPr>
          <a:xfrm>
            <a:off x="990720" y="1523880"/>
            <a:ext cx="3609720" cy="3915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6553080" y="12952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Md BT"/>
              </a:rPr>
              <a:t># 1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Scorec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05160" y="2819160"/>
            <a:ext cx="378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your scorecard with the official pla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32"/>
          <p:cNvGrpSpPr/>
          <p:nvPr/>
        </p:nvGrpSpPr>
        <p:grpSpPr>
          <a:xfrm>
            <a:off x="1295280" y="1371600"/>
            <a:ext cx="3127320" cy="4562280"/>
            <a:chOff x="1295280" y="1371600"/>
            <a:chExt cx="3127320" cy="4562280"/>
          </a:xfrm>
        </p:grpSpPr>
        <p:grpSp>
          <p:nvGrpSpPr>
            <p:cNvPr id="197" name="Group 31"/>
            <p:cNvGrpSpPr/>
            <p:nvPr/>
          </p:nvGrpSpPr>
          <p:grpSpPr>
            <a:xfrm>
              <a:off x="1295280" y="1371600"/>
              <a:ext cx="3127320" cy="4562280"/>
              <a:chOff x="1295280" y="1371600"/>
              <a:chExt cx="3127320" cy="4562280"/>
            </a:xfrm>
          </p:grpSpPr>
          <p:grpSp>
            <p:nvGrpSpPr>
              <p:cNvPr id="198" name="Group 30"/>
              <p:cNvGrpSpPr/>
              <p:nvPr/>
            </p:nvGrpSpPr>
            <p:grpSpPr>
              <a:xfrm>
                <a:off x="1295280" y="1371600"/>
                <a:ext cx="3127320" cy="4562280"/>
                <a:chOff x="1295280" y="1371600"/>
                <a:chExt cx="3127320" cy="4562280"/>
              </a:xfrm>
            </p:grpSpPr>
            <p:pic>
              <p:nvPicPr>
                <p:cNvPr id="199" name="Picture 17" descr="eggs-candling scorecard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1371600"/>
                  <a:ext cx="3127320" cy="4562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Text Box 18"/>
                <p:cNvSpPr/>
                <p:nvPr/>
              </p:nvSpPr>
              <p:spPr>
                <a:xfrm>
                  <a:off x="3352680" y="376380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Text Box 20"/>
                <p:cNvSpPr/>
                <p:nvPr/>
              </p:nvSpPr>
              <p:spPr>
                <a:xfrm>
                  <a:off x="2514600" y="4068720"/>
                  <a:ext cx="30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Text Box 24"/>
                <p:cNvSpPr/>
                <p:nvPr/>
              </p:nvSpPr>
              <p:spPr>
                <a:xfrm>
                  <a:off x="3047760" y="533376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26"/>
                <p:cNvSpPr/>
                <p:nvPr/>
              </p:nvSpPr>
              <p:spPr>
                <a:xfrm>
                  <a:off x="2743200" y="4495680"/>
                  <a:ext cx="30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27"/>
                <p:cNvSpPr/>
                <p:nvPr/>
              </p:nvSpPr>
              <p:spPr>
                <a:xfrm>
                  <a:off x="2514600" y="5257800"/>
                  <a:ext cx="304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28"/>
                <p:cNvSpPr/>
                <p:nvPr/>
              </p:nvSpPr>
              <p:spPr>
                <a:xfrm>
                  <a:off x="3352680" y="464796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29"/>
                <p:cNvSpPr/>
                <p:nvPr/>
              </p:nvSpPr>
              <p:spPr>
                <a:xfrm>
                  <a:off x="3047760" y="4952880"/>
                  <a:ext cx="30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Text Box 19"/>
              <p:cNvSpPr/>
              <p:nvPr/>
            </p:nvSpPr>
            <p:spPr>
              <a:xfrm>
                <a:off x="2514600" y="388620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21"/>
              <p:cNvSpPr/>
              <p:nvPr/>
            </p:nvSpPr>
            <p:spPr>
              <a:xfrm>
                <a:off x="3352680" y="434340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23"/>
              <p:cNvSpPr/>
              <p:nvPr/>
            </p:nvSpPr>
            <p:spPr>
              <a:xfrm>
                <a:off x="2743200" y="419076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 Box 25"/>
              <p:cNvSpPr/>
              <p:nvPr/>
            </p:nvSpPr>
            <p:spPr>
              <a:xfrm>
                <a:off x="2514600" y="510516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Symbol"/>
                    <a:ea typeface="Symbol"/>
                  </a:rPr>
                  <a:t>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Text Box 22"/>
            <p:cNvSpPr/>
            <p:nvPr/>
          </p:nvSpPr>
          <p:spPr>
            <a:xfrm>
              <a:off x="2743200" y="48006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 Websi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440" y="22096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nimal.ufl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Youth Poultry Jud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Show Me 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Go to Main Practice M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Interior Egg Quality (candl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770040" y="1447920"/>
            <a:ext cx="74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nimal.ufl.edu/Youth/poultry/candled_eggs/candledeggs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nd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1600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small end of egg with thumb, index, and middle fin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large end of egg against candler at a 45 degree 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ly rotate e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blood / meat sp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size of air cell, yolk sha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762120" y="609480"/>
            <a:ext cx="7238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b7"/>
                </a:solidFill>
                <a:latin typeface="Arial Black"/>
              </a:rPr>
              <a:t>Interior Egg Qualit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b7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d as AA, A, B, and ined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 of Air Cell is generally most important when there is no blood/meat sp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lk Shadow Outline – determined by albumen thic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 and Shape of Yo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ior Quality – Air Ce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040" y="1371240"/>
            <a:ext cx="800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= Higher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64771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86600" cy="4270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609840" y="457200"/>
            <a:ext cx="758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  -  Air Cell is 1/8 inch deep (bottom le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 -  Air Cell is 3/16 inch deep (bottom cen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 -  Air Cell is 3/8 inch deep (bottom righ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Interior Quality – Yolk Shadow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44756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lbumen is thick, the shadow of the yolk will be harder to s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297800" y="2971800"/>
            <a:ext cx="665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 Quality = Outline slightly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Quality  =  Outline fairly well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 Quality  =  Outline plainly 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714840" cy="4895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66720" y="244440"/>
            <a:ext cx="4575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A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00600" y="2209680"/>
            <a:ext cx="3927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Cell = 1/8 i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lk Shadow = Slightly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66720" y="244440"/>
            <a:ext cx="4575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Qua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00600" y="2209680"/>
            <a:ext cx="3927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Cell = 3/16 i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lk Shadow = Fairly-well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71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9:58:31Z</dcterms:created>
  <dc:creator>Extension User</dc:creator>
  <dc:description/>
  <dc:language>en-US</dc:language>
  <cp:lastModifiedBy>Sara Kahley</cp:lastModifiedBy>
  <dcterms:modified xsi:type="dcterms:W3CDTF">2013-02-21T20:47:54Z</dcterms:modified>
  <cp:revision>16</cp:revision>
  <dc:subject/>
  <dc:title>Slide 1</dc:title>
</cp:coreProperties>
</file>