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291-3A57-4FDA-9EC4-E1572675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DC40-FC00-4C9B-B765-8911027B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DDA-3E90-42E4-BA1C-BE185090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4224-1C49-42D0-95E0-A0AB808E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2B64-41F4-4D08-A8E3-6CED6729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E6D9-4D80-44C7-9D56-1E5ADB88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C259-E137-4815-9D45-1CBE196B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EB7A-B7A3-49E1-9F81-037216B8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B721-EB46-4898-8F3C-705B8782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8D6B-FE25-44AF-BBBC-B794E443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6C2F-53D8-4CE0-A618-401A23DD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7E2-A064-4E02-8022-71B8AE30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97AC-41C6-4D31-B8B5-AD2520DB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4E38-E0E2-4A64-9ED1-491C3328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D1C7-9816-4294-AF54-9758C8A4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A6D4-D768-4D6D-8928-869D6286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5E23-F7DF-42A7-9DAD-C8C6C598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EA7-8886-4A02-9DDE-AC5E8F28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1F2A-0090-4046-BEAC-C6B06D93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8F8-667C-48BF-925D-C2DCD6D4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4BF3-728A-4F95-943C-CEFBD933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F78-5045-4075-AF5D-BF8A03C5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4361-2A48-4962-94CC-779FB981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265-3556-48D7-93F6-2CD68431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2E2B-CE3C-49A9-A6FF-DFE03F8E2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57DA-F17B-4E84-9539-26E3B5739E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838080" y="609480"/>
            <a:ext cx="77724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oultry Judging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nterior Egg Qualit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981080" y="4800600"/>
            <a:ext cx="6782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reated by Connie Pa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manuel County Extension Ag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.O. Box 77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29 N. Anderson Driv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wainsboro, GA  3040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78-237-1226 FAX 478-237-845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niep@uga.ed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ril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practice1egg12"/>
          <p:cNvPicPr/>
          <p:nvPr/>
        </p:nvPicPr>
        <p:blipFill>
          <a:blip r:embed="rId1"/>
          <a:stretch/>
        </p:blipFill>
        <p:spPr>
          <a:xfrm>
            <a:off x="1066680" y="2438280"/>
            <a:ext cx="3976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66720" y="244440"/>
            <a:ext cx="4575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 Qual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00600" y="2209680"/>
            <a:ext cx="3927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Cell = 3/8 i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lk Shadow = Plainly Vi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3695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673360" cy="352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3200400" y="1600200"/>
            <a:ext cx="2681280" cy="3562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6172200" y="1600200"/>
            <a:ext cx="2592360" cy="3581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ide by Side Comparis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298160" y="526104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4253400" y="5221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7317360" y="5184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erior Quality – Scorec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7960" y="2666520"/>
            <a:ext cx="3786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g numbers run ver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eggs-candling scorecard"/>
          <p:cNvPicPr/>
          <p:nvPr/>
        </p:nvPicPr>
        <p:blipFill>
          <a:blip r:embed="rId1"/>
          <a:stretch/>
        </p:blipFill>
        <p:spPr>
          <a:xfrm>
            <a:off x="1143000" y="1447920"/>
            <a:ext cx="3127320" cy="4562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057400" y="3962520"/>
            <a:ext cx="304920" cy="19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erior Quality – Scorec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952880" y="2438280"/>
            <a:ext cx="3786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correct quality grade across from the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eggs-candling scorecard"/>
          <p:cNvPicPr/>
          <p:nvPr/>
        </p:nvPicPr>
        <p:blipFill>
          <a:blip r:embed="rId1"/>
          <a:stretch/>
        </p:blipFill>
        <p:spPr>
          <a:xfrm>
            <a:off x="1143000" y="1447920"/>
            <a:ext cx="3127320" cy="4562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 rot="16200000">
            <a:off x="2705040" y="3162240"/>
            <a:ext cx="380880" cy="1828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erior Quality – Scorec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800240" y="1981080"/>
            <a:ext cx="3786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l in the  circle underneath the grade you cho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ure that  every number has one answer &amp; you do not have two answers in the same 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5" descr="eggs-candling scorecard"/>
          <p:cNvPicPr/>
          <p:nvPr/>
        </p:nvPicPr>
        <p:blipFill>
          <a:blip r:embed="rId1"/>
          <a:stretch/>
        </p:blipFill>
        <p:spPr>
          <a:xfrm>
            <a:off x="1143000" y="1447920"/>
            <a:ext cx="3127320" cy="4562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2590920" y="380988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6" descr="practice1egg6"/>
          <p:cNvPicPr/>
          <p:nvPr/>
        </p:nvPicPr>
        <p:blipFill>
          <a:blip r:embed="rId1"/>
          <a:stretch/>
        </p:blipFill>
        <p:spPr>
          <a:xfrm>
            <a:off x="762120" y="1371600"/>
            <a:ext cx="4448160" cy="4390920"/>
          </a:xfrm>
          <a:prstGeom prst="rect">
            <a:avLst/>
          </a:prstGeom>
          <a:ln w="0">
            <a:noFill/>
          </a:ln>
        </p:spPr>
      </p:pic>
      <p:sp>
        <p:nvSpPr>
          <p:cNvPr id="148" name="WordArt 7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Inedi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553080" y="1295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A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2" name="Picture 6" descr="practice1egg2"/>
          <p:cNvPicPr/>
          <p:nvPr/>
        </p:nvPicPr>
        <p:blipFill>
          <a:blip r:embed="rId1"/>
          <a:stretch/>
        </p:blipFill>
        <p:spPr>
          <a:xfrm>
            <a:off x="609480" y="1523880"/>
            <a:ext cx="3911760" cy="44960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6553080" y="1295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A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6" name="Picture 6" descr="practice1egg12"/>
          <p:cNvPicPr/>
          <p:nvPr/>
        </p:nvPicPr>
        <p:blipFill>
          <a:blip r:embed="rId1"/>
          <a:stretch/>
        </p:blipFill>
        <p:spPr>
          <a:xfrm>
            <a:off x="152280" y="1295280"/>
            <a:ext cx="4418280" cy="4572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6553080" y="1295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WordArt 3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0" name="Picture 6" descr="practice1egg3"/>
          <p:cNvPicPr/>
          <p:nvPr/>
        </p:nvPicPr>
        <p:blipFill>
          <a:blip r:embed="rId1"/>
          <a:stretch/>
        </p:blipFill>
        <p:spPr>
          <a:xfrm>
            <a:off x="457200" y="1371600"/>
            <a:ext cx="3995640" cy="4495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7"/>
          <p:cNvSpPr/>
          <p:nvPr/>
        </p:nvSpPr>
        <p:spPr>
          <a:xfrm>
            <a:off x="6553080" y="1295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WordArt 3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Inedi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4" name="Picture 6" descr="practice1egg13"/>
          <p:cNvPicPr/>
          <p:nvPr/>
        </p:nvPicPr>
        <p:blipFill>
          <a:blip r:embed="rId1"/>
          <a:stretch/>
        </p:blipFill>
        <p:spPr>
          <a:xfrm>
            <a:off x="228600" y="1219320"/>
            <a:ext cx="4410000" cy="42386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6553080" y="1295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erior Quality – Candl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5" descr="production7"/>
          <p:cNvPicPr/>
          <p:nvPr/>
        </p:nvPicPr>
        <p:blipFill>
          <a:blip r:embed="rId1"/>
          <a:stretch/>
        </p:blipFill>
        <p:spPr>
          <a:xfrm>
            <a:off x="762120" y="2057400"/>
            <a:ext cx="2950920" cy="2971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1143720" y="510552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 Egg Fa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8" descr="candling"/>
          <p:cNvPicPr/>
          <p:nvPr/>
        </p:nvPicPr>
        <p:blipFill>
          <a:blip r:embed="rId2"/>
          <a:stretch/>
        </p:blipFill>
        <p:spPr>
          <a:xfrm>
            <a:off x="4114800" y="1828800"/>
            <a:ext cx="4648320" cy="31478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"/>
          <p:cNvSpPr/>
          <p:nvPr/>
        </p:nvSpPr>
        <p:spPr>
          <a:xfrm>
            <a:off x="4112640" y="5105520"/>
            <a:ext cx="45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4-H Judging Con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ld only ONE egg at the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WordArt 3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8" name="Picture 6" descr="practice1egg5"/>
          <p:cNvPicPr/>
          <p:nvPr/>
        </p:nvPicPr>
        <p:blipFill>
          <a:blip r:embed="rId1"/>
          <a:stretch/>
        </p:blipFill>
        <p:spPr>
          <a:xfrm>
            <a:off x="380880" y="1295280"/>
            <a:ext cx="39988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6553080" y="1295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WordArt 3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Inedi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2" name="Picture 6" descr="practice3egg4"/>
          <p:cNvPicPr/>
          <p:nvPr/>
        </p:nvPicPr>
        <p:blipFill>
          <a:blip r:embed="rId1"/>
          <a:stretch/>
        </p:blipFill>
        <p:spPr>
          <a:xfrm>
            <a:off x="533520" y="1447920"/>
            <a:ext cx="4114800" cy="39114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6553080" y="1295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WordArt 3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6" name="Picture 6" descr="practice3egg12"/>
          <p:cNvPicPr/>
          <p:nvPr/>
        </p:nvPicPr>
        <p:blipFill>
          <a:blip r:embed="rId1"/>
          <a:stretch/>
        </p:blipFill>
        <p:spPr>
          <a:xfrm>
            <a:off x="990720" y="1523880"/>
            <a:ext cx="3609720" cy="37814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6553080" y="1295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WordArt 3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0" name="Picture 6" descr="practice3egg14"/>
          <p:cNvPicPr/>
          <p:nvPr/>
        </p:nvPicPr>
        <p:blipFill>
          <a:blip r:embed="rId1"/>
          <a:stretch/>
        </p:blipFill>
        <p:spPr>
          <a:xfrm>
            <a:off x="533520" y="1371600"/>
            <a:ext cx="3902040" cy="4038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6553080" y="12952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WordArt 3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A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4" name="Picture 6" descr="practice3egg9"/>
          <p:cNvPicPr/>
          <p:nvPr/>
        </p:nvPicPr>
        <p:blipFill>
          <a:blip r:embed="rId1"/>
          <a:stretch/>
        </p:blipFill>
        <p:spPr>
          <a:xfrm>
            <a:off x="457200" y="1371600"/>
            <a:ext cx="4038480" cy="39196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8"/>
          <p:cNvSpPr/>
          <p:nvPr/>
        </p:nvSpPr>
        <p:spPr>
          <a:xfrm>
            <a:off x="6248520" y="12193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WordArt 3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A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8" name="Picture 6" descr="practice1egg7"/>
          <p:cNvPicPr/>
          <p:nvPr/>
        </p:nvPicPr>
        <p:blipFill>
          <a:blip r:embed="rId1"/>
          <a:stretch/>
        </p:blipFill>
        <p:spPr>
          <a:xfrm>
            <a:off x="685800" y="1600200"/>
            <a:ext cx="3857760" cy="35528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6553080" y="12952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WordArt 3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2" name="Picture 6" descr="practice1egg16"/>
          <p:cNvPicPr/>
          <p:nvPr/>
        </p:nvPicPr>
        <p:blipFill>
          <a:blip r:embed="rId1"/>
          <a:stretch/>
        </p:blipFill>
        <p:spPr>
          <a:xfrm>
            <a:off x="990720" y="1523880"/>
            <a:ext cx="3609720" cy="3915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6553080" y="12952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1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erior Quality – Scorec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105160" y="2819160"/>
            <a:ext cx="3786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your scorecard with the official pla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32"/>
          <p:cNvGrpSpPr/>
          <p:nvPr/>
        </p:nvGrpSpPr>
        <p:grpSpPr>
          <a:xfrm>
            <a:off x="1295280" y="1371600"/>
            <a:ext cx="3127320" cy="4562280"/>
            <a:chOff x="1295280" y="1371600"/>
            <a:chExt cx="3127320" cy="4562280"/>
          </a:xfrm>
        </p:grpSpPr>
        <p:grpSp>
          <p:nvGrpSpPr>
            <p:cNvPr id="197" name="Group 31"/>
            <p:cNvGrpSpPr/>
            <p:nvPr/>
          </p:nvGrpSpPr>
          <p:grpSpPr>
            <a:xfrm>
              <a:off x="1295280" y="1371600"/>
              <a:ext cx="3127320" cy="4562280"/>
              <a:chOff x="1295280" y="1371600"/>
              <a:chExt cx="3127320" cy="4562280"/>
            </a:xfrm>
          </p:grpSpPr>
          <p:grpSp>
            <p:nvGrpSpPr>
              <p:cNvPr id="198" name="Group 30"/>
              <p:cNvGrpSpPr/>
              <p:nvPr/>
            </p:nvGrpSpPr>
            <p:grpSpPr>
              <a:xfrm>
                <a:off x="1295280" y="1371600"/>
                <a:ext cx="3127320" cy="4562280"/>
                <a:chOff x="1295280" y="1371600"/>
                <a:chExt cx="3127320" cy="4562280"/>
              </a:xfrm>
            </p:grpSpPr>
            <p:pic>
              <p:nvPicPr>
                <p:cNvPr id="199" name="Picture 17" descr="eggs-candling scorecard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1371600"/>
                  <a:ext cx="3127320" cy="4562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0" name="Text Box 18"/>
                <p:cNvSpPr/>
                <p:nvPr/>
              </p:nvSpPr>
              <p:spPr>
                <a:xfrm>
                  <a:off x="3352680" y="3763800"/>
                  <a:ext cx="304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Text Box 20"/>
                <p:cNvSpPr/>
                <p:nvPr/>
              </p:nvSpPr>
              <p:spPr>
                <a:xfrm>
                  <a:off x="2514600" y="4068720"/>
                  <a:ext cx="304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Text Box 24"/>
                <p:cNvSpPr/>
                <p:nvPr/>
              </p:nvSpPr>
              <p:spPr>
                <a:xfrm>
                  <a:off x="3047760" y="5333760"/>
                  <a:ext cx="304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Text Box 26"/>
                <p:cNvSpPr/>
                <p:nvPr/>
              </p:nvSpPr>
              <p:spPr>
                <a:xfrm>
                  <a:off x="2743200" y="4495680"/>
                  <a:ext cx="304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Text Box 27"/>
                <p:cNvSpPr/>
                <p:nvPr/>
              </p:nvSpPr>
              <p:spPr>
                <a:xfrm>
                  <a:off x="2514600" y="5257800"/>
                  <a:ext cx="304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Text Box 28"/>
                <p:cNvSpPr/>
                <p:nvPr/>
              </p:nvSpPr>
              <p:spPr>
                <a:xfrm>
                  <a:off x="3352680" y="4647960"/>
                  <a:ext cx="304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Text Box 29"/>
                <p:cNvSpPr/>
                <p:nvPr/>
              </p:nvSpPr>
              <p:spPr>
                <a:xfrm>
                  <a:off x="3047760" y="4952880"/>
                  <a:ext cx="304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Text Box 19"/>
              <p:cNvSpPr/>
              <p:nvPr/>
            </p:nvSpPr>
            <p:spPr>
              <a:xfrm>
                <a:off x="2514600" y="3886200"/>
                <a:ext cx="30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21"/>
              <p:cNvSpPr/>
              <p:nvPr/>
            </p:nvSpPr>
            <p:spPr>
              <a:xfrm>
                <a:off x="3352680" y="434340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23"/>
              <p:cNvSpPr/>
              <p:nvPr/>
            </p:nvSpPr>
            <p:spPr>
              <a:xfrm>
                <a:off x="2743200" y="4190760"/>
                <a:ext cx="30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Text Box 25"/>
              <p:cNvSpPr/>
              <p:nvPr/>
            </p:nvSpPr>
            <p:spPr>
              <a:xfrm>
                <a:off x="2514600" y="5105160"/>
                <a:ext cx="30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Text Box 22"/>
            <p:cNvSpPr/>
            <p:nvPr/>
          </p:nvSpPr>
          <p:spPr>
            <a:xfrm>
              <a:off x="2743200" y="480060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 Websi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440" y="22096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animal.ufl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Youth Poultry Jud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Show Me H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Go to Main Practice M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Interior Egg Quality (candl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770040" y="1447920"/>
            <a:ext cx="74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nimal.ufl.edu/Youth/poultry/candled_eggs/candledeggs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ndl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120" y="16002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 small end of egg with thumb, index, and middle fing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large end of egg against candler at a 45 degree an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fully rotate eg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for blood / meat sp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size of air cell, yolk shad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762120" y="609480"/>
            <a:ext cx="7238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b7"/>
                </a:solidFill>
                <a:latin typeface="Arial Black"/>
              </a:rPr>
              <a:t>Interior Egg Quality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b7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d as AA, A, B, and ined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ze of Air Cell is generally most important when there is no blood/meat sp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lk Shadow Outline – determined by albumen thick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ze and Shape of Yo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erior Quality – Air Cel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040" y="1371240"/>
            <a:ext cx="800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r = Higher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600200" y="2514600"/>
            <a:ext cx="647712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086600" cy="4270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609840" y="457200"/>
            <a:ext cx="758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  -  Air Cell is 1/8 inch deep (bottom lef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 -  Air Cell is 3/16 inch deep (bottom cen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  -  Air Cell is 3/8 inch deep (bottom righ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Interior Quality – Yolk Shadow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44756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albumen is thick, the shadow of the yolk will be harder to s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297800" y="2971800"/>
            <a:ext cx="665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A Quality = Outline slightly def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Quality  =  Outline fairly well def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 Quality  =  Outline plainly vi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3714840" cy="4895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66720" y="244440"/>
            <a:ext cx="4575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A Qual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00600" y="2209680"/>
            <a:ext cx="3927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Cell = 1/8 i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lk Shadow = Slightly def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66720" y="244440"/>
            <a:ext cx="4575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 Qual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00600" y="2209680"/>
            <a:ext cx="3927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Cell = 3/16 i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lk Shadow = Fairly-well def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3771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9:58:31Z</dcterms:created>
  <dc:creator>Extension User</dc:creator>
  <dc:description/>
  <dc:language>en-US</dc:language>
  <cp:lastModifiedBy>Sara Kahley</cp:lastModifiedBy>
  <dcterms:modified xsi:type="dcterms:W3CDTF">2013-02-21T20:47:54Z</dcterms:modified>
  <cp:revision>16</cp:revision>
  <dc:subject/>
  <dc:title>Slide 1</dc:title>
</cp:coreProperties>
</file>