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A7E-386F-4903-BC4F-CFEAF318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7C1-E938-48C3-AA97-18D585AA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69D-30C4-49DE-9E4D-A3EE3039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D99-D5CF-4D64-8321-0D069026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855-BC30-40C6-ABD8-736D6934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A60-A99E-4298-8E8B-1F574A26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A65-D4CD-42DA-A7F1-357F21A8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103-E51F-450D-A8C1-4EC33391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E89-8F25-43EB-B9DA-9EF3322B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769-9545-41CB-B365-5A0E031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984-D68B-43C2-9E63-AB3A5B90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AE6-E6C0-424B-8E1F-2443E6F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6483-3FF3-4B6D-A863-5002F7980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533520" y="2814480"/>
            <a:ext cx="5029200" cy="303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Egg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5120" y="44953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reated by Conni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manuel County Extension 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.O. Box 7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9 N. Anderson Dr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,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wainsboro, GA  304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78-237-1226 FAX 478-237-84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niep@uga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3657600" y="99072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r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04920" y="29941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5715000" y="4952880"/>
            <a:ext cx="200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3"/>
          <p:cNvSpPr txBox="1"/>
          <p:nvPr/>
        </p:nvSpPr>
        <p:spPr>
          <a:xfrm>
            <a:off x="5715000" y="4952880"/>
            <a:ext cx="200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3"/>
          <p:cNvSpPr txBox="1"/>
          <p:nvPr/>
        </p:nvSpPr>
        <p:spPr>
          <a:xfrm>
            <a:off x="5715000" y="5410080"/>
            <a:ext cx="200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3"/>
          <p:cNvSpPr txBox="1"/>
          <p:nvPr/>
        </p:nvSpPr>
        <p:spPr>
          <a:xfrm>
            <a:off x="5715000" y="4952880"/>
            <a:ext cx="200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"/>
          <p:cNvSpPr txBox="1"/>
          <p:nvPr/>
        </p:nvSpPr>
        <p:spPr>
          <a:xfrm>
            <a:off x="4724280" y="510552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Dir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3"/>
          <p:cNvSpPr txBox="1"/>
          <p:nvPr/>
        </p:nvSpPr>
        <p:spPr>
          <a:xfrm>
            <a:off x="5715000" y="506736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>
            <a:off x="5715000" y="529596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5715000" y="514368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04920" y="29718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Score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486400" y="2514600"/>
            <a:ext cx="281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your scorecard with the official pla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28"/>
          <p:cNvGrpSpPr/>
          <p:nvPr/>
        </p:nvGrpSpPr>
        <p:grpSpPr>
          <a:xfrm>
            <a:off x="762120" y="1219320"/>
            <a:ext cx="3789360" cy="5333760"/>
            <a:chOff x="762120" y="1219320"/>
            <a:chExt cx="3789360" cy="5333760"/>
          </a:xfrm>
        </p:grpSpPr>
        <p:grpSp>
          <p:nvGrpSpPr>
            <p:cNvPr id="98" name="Group 27"/>
            <p:cNvGrpSpPr/>
            <p:nvPr/>
          </p:nvGrpSpPr>
          <p:grpSpPr>
            <a:xfrm>
              <a:off x="762120" y="1219320"/>
              <a:ext cx="3789360" cy="5333760"/>
              <a:chOff x="762120" y="1219320"/>
              <a:chExt cx="3789360" cy="5333760"/>
            </a:xfrm>
          </p:grpSpPr>
          <p:pic>
            <p:nvPicPr>
              <p:cNvPr id="99" name="Picture 16" descr="eggs-exterior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219320"/>
                <a:ext cx="3789360" cy="533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Text Box 17"/>
              <p:cNvSpPr/>
              <p:nvPr/>
            </p:nvSpPr>
            <p:spPr>
              <a:xfrm>
                <a:off x="2570400" y="41911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 Box 19"/>
              <p:cNvSpPr/>
              <p:nvPr/>
            </p:nvSpPr>
            <p:spPr>
              <a:xfrm>
                <a:off x="2951280" y="43736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Text Box 20"/>
              <p:cNvSpPr/>
              <p:nvPr/>
            </p:nvSpPr>
            <p:spPr>
              <a:xfrm>
                <a:off x="2265480" y="472428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 Box 22"/>
              <p:cNvSpPr/>
              <p:nvPr/>
            </p:nvSpPr>
            <p:spPr>
              <a:xfrm>
                <a:off x="2570400" y="50594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Text Box 23"/>
              <p:cNvSpPr/>
              <p:nvPr/>
            </p:nvSpPr>
            <p:spPr>
              <a:xfrm>
                <a:off x="2951280" y="52578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Text Box 25"/>
              <p:cNvSpPr/>
              <p:nvPr/>
            </p:nvSpPr>
            <p:spPr>
              <a:xfrm>
                <a:off x="2265480" y="55926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 Box 26"/>
              <p:cNvSpPr/>
              <p:nvPr/>
            </p:nvSpPr>
            <p:spPr>
              <a:xfrm>
                <a:off x="2570400" y="57913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Text Box 18"/>
            <p:cNvSpPr/>
            <p:nvPr/>
          </p:nvSpPr>
          <p:spPr>
            <a:xfrm>
              <a:off x="2265480" y="452592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570400" y="487692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2265480" y="54100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Egg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ign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:  shape, texture, sound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Web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879120" y="1447920"/>
            <a:ext cx="71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l.ufl.edu/Youth/poultry/exterior_eggs/exterioreggs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nimal.ufl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Youth Poultry Jud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Show Me 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Go to Main Practice 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Exterior Egg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Grade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from foreig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sily visible stains / discolo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llent condition : Cl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ally normal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ght ridges per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– Grade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hapen Sh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nounced ridges or thin 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from adhering di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ized stain = 1/32 egg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ttered stain = 1/16 egg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rior Quality – Grade Dir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adhering dirt / foreign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ized stain more than 1/32 egg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ttered stain more than 1/16 egg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Score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00600" y="2895120"/>
            <a:ext cx="3733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g numbers run ver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eggs-exterior"/>
          <p:cNvPicPr/>
          <p:nvPr/>
        </p:nvPicPr>
        <p:blipFill>
          <a:blip r:embed="rId1"/>
          <a:stretch/>
        </p:blipFill>
        <p:spPr>
          <a:xfrm>
            <a:off x="685800" y="1219320"/>
            <a:ext cx="3789360" cy="5333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828800" y="4267080"/>
            <a:ext cx="304920" cy="19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Score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00600" y="2361960"/>
            <a:ext cx="37339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rrect quality grade in one of the 3 columns across from the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eggs-exterior"/>
          <p:cNvPicPr/>
          <p:nvPr/>
        </p:nvPicPr>
        <p:blipFill>
          <a:blip r:embed="rId1"/>
          <a:stretch/>
        </p:blipFill>
        <p:spPr>
          <a:xfrm>
            <a:off x="685800" y="1219320"/>
            <a:ext cx="3789360" cy="5333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 rot="16200000">
            <a:off x="2438280" y="3505320"/>
            <a:ext cx="45720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Score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eggs-exterior"/>
          <p:cNvPicPr/>
          <p:nvPr/>
        </p:nvPicPr>
        <p:blipFill>
          <a:blip r:embed="rId1"/>
          <a:stretch/>
        </p:blipFill>
        <p:spPr>
          <a:xfrm>
            <a:off x="685800" y="1219320"/>
            <a:ext cx="3789360" cy="5333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786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 circle underneath the grade you cho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hat you do not have two checks in the same 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14600" y="4191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6"/>
          <p:cNvSpPr txBox="1"/>
          <p:nvPr/>
        </p:nvSpPr>
        <p:spPr>
          <a:xfrm>
            <a:off x="3505320" y="480060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0:40:59Z</dcterms:created>
  <dc:creator>Sara Kahley</dc:creator>
  <dc:description/>
  <dc:language>en-US</dc:language>
  <cp:lastModifiedBy>Sara Kahley</cp:lastModifiedBy>
  <dcterms:modified xsi:type="dcterms:W3CDTF">2013-02-21T20:47:27Z</dcterms:modified>
  <cp:revision>1</cp:revision>
  <dc:subject/>
  <dc:title>Exterior Egg Quality</dc:title>
</cp:coreProperties>
</file>