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42B-6070-439B-A85E-8744266E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5DE-9BC7-431D-97C0-59645E5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CAA-3DE7-433D-9502-0ED99B38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32A-EA50-4B0B-8AED-B9CC3477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208-E0DB-49A3-BB99-3752846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BBB-453C-4147-8861-F6BFB05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78E-92D6-4378-A08A-9EC8F990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DF6-11E4-43AB-8504-005048E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206-1F24-43E5-9365-DAB19C3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B10-4EB4-4FEC-B076-B8C64D1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DA4-88E5-47E5-AD5C-F9A529C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A01-0DE4-441C-86D3-D234C80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D0E-9CC9-42EF-99BA-83C694945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533520" y="2814480"/>
            <a:ext cx="5029200" cy="303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Egg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5120" y="4495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reated by Conni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manuel County Extension A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.O. Box 7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9 N. Anderson Dr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,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wainsboro, GA  304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78-237-1226 FAX 478-237-84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niep@uga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3657600" y="99072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r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04920" y="299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5715000" y="54100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3"/>
          <p:cNvSpPr txBox="1"/>
          <p:nvPr/>
        </p:nvSpPr>
        <p:spPr>
          <a:xfrm>
            <a:off x="5715000" y="4952880"/>
            <a:ext cx="200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4724280" y="51055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Dir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5715000" y="506736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5715000" y="529596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5715000" y="51436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04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486400" y="251460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your scorecard with the official pl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28"/>
          <p:cNvGrpSpPr/>
          <p:nvPr/>
        </p:nvGrpSpPr>
        <p:grpSpPr>
          <a:xfrm>
            <a:off x="762120" y="1219320"/>
            <a:ext cx="3789360" cy="5333760"/>
            <a:chOff x="762120" y="1219320"/>
            <a:chExt cx="3789360" cy="5333760"/>
          </a:xfrm>
        </p:grpSpPr>
        <p:grpSp>
          <p:nvGrpSpPr>
            <p:cNvPr id="98" name="Group 27"/>
            <p:cNvGrpSpPr/>
            <p:nvPr/>
          </p:nvGrpSpPr>
          <p:grpSpPr>
            <a:xfrm>
              <a:off x="762120" y="1219320"/>
              <a:ext cx="3789360" cy="5333760"/>
              <a:chOff x="762120" y="1219320"/>
              <a:chExt cx="3789360" cy="5333760"/>
            </a:xfrm>
          </p:grpSpPr>
          <p:pic>
            <p:nvPicPr>
              <p:cNvPr id="99" name="Picture 16" descr="eggs-exterior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219320"/>
                <a:ext cx="3789360" cy="53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17"/>
              <p:cNvSpPr/>
              <p:nvPr/>
            </p:nvSpPr>
            <p:spPr>
              <a:xfrm>
                <a:off x="2570400" y="41911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19"/>
              <p:cNvSpPr/>
              <p:nvPr/>
            </p:nvSpPr>
            <p:spPr>
              <a:xfrm>
                <a:off x="2951280" y="43736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20"/>
              <p:cNvSpPr/>
              <p:nvPr/>
            </p:nvSpPr>
            <p:spPr>
              <a:xfrm>
                <a:off x="2265480" y="47242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 Box 22"/>
              <p:cNvSpPr/>
              <p:nvPr/>
            </p:nvSpPr>
            <p:spPr>
              <a:xfrm>
                <a:off x="2570400" y="50594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 Box 23"/>
              <p:cNvSpPr/>
              <p:nvPr/>
            </p:nvSpPr>
            <p:spPr>
              <a:xfrm>
                <a:off x="2951280" y="52578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 Box 25"/>
              <p:cNvSpPr/>
              <p:nvPr/>
            </p:nvSpPr>
            <p:spPr>
              <a:xfrm>
                <a:off x="2265480" y="55926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Box 26"/>
              <p:cNvSpPr/>
              <p:nvPr/>
            </p:nvSpPr>
            <p:spPr>
              <a:xfrm>
                <a:off x="2570400" y="5791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 Box 18"/>
            <p:cNvSpPr/>
            <p:nvPr/>
          </p:nvSpPr>
          <p:spPr>
            <a:xfrm>
              <a:off x="2265480" y="45259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570400" y="48769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265480" y="54100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Egg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ign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 shape, texture, sound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 Web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879120" y="1447920"/>
            <a:ext cx="71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l.ufl.edu/Youth/poultry/exterior_eggs/exterioreggs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nimal.ufl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Youth Poultry Jud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Show Me 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Go to Main Practice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Exterior Egg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Grade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from foreig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sily visible stains / discolo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condition : 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ly normal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ght ridges per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– Grade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hapen S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ced ridges or thin 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from adhering di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ized stain = 1/32 egg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ttered stain = 1/16 egg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rior Quality – Grade Di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adhering dirt / foreign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ized stain more than 1/32 egg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ttered stain more than 1/16 egg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0600" y="2895120"/>
            <a:ext cx="373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numbers run ver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828800" y="4267080"/>
            <a:ext cx="30492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00600" y="23619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rrect quality grade in one of the 3 columns across from the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16200000">
            <a:off x="2438280" y="3505320"/>
            <a:ext cx="4572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ior Quality - Score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eggs-exterior"/>
          <p:cNvPicPr/>
          <p:nvPr/>
        </p:nvPicPr>
        <p:blipFill>
          <a:blip r:embed="rId1"/>
          <a:stretch/>
        </p:blipFill>
        <p:spPr>
          <a:xfrm>
            <a:off x="685800" y="1219320"/>
            <a:ext cx="378936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786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 circle underneath the grade you cho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hat you do not have two checks in the same 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14600" y="4191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3505320" y="480060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049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utura Md BT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40:59Z</dcterms:created>
  <dc:creator>Sara Kahley</dc:creator>
  <dc:description/>
  <dc:language>en-US</dc:language>
  <cp:lastModifiedBy>Sara Kahley</cp:lastModifiedBy>
  <dcterms:modified xsi:type="dcterms:W3CDTF">2013-02-21T20:47:27Z</dcterms:modified>
  <cp:revision>1</cp:revision>
  <dc:subject/>
  <dc:title>Exterior Egg Quality</dc:title>
</cp:coreProperties>
</file>