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313-D709-4F50-9AA1-1A720D07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1FA-60B0-41BA-81B3-198A1153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5218-5F32-468C-B932-CE06E173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CAD5-4A4D-4EB8-BD7A-AEBD5A5E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EE98-36D3-4387-B4A7-54E21404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E585-912F-452C-8FF3-F55AFEAD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394D-D8AF-4F96-A0DA-F70F7878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116B-448A-4289-9775-738603A5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25E1-A054-4829-956D-29D63F0F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CDA7-170C-47B2-8446-C9B29CBB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F306-F231-4CDD-9ED1-F354636A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4FB-B8A9-444C-B2FD-0B07C725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FCDD-6FEF-432B-99F7-243BCBC4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8DB0-53B0-4206-A995-91C27998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AE78-0724-4DD4-AD54-846E4595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AAB8-BFA5-410D-8CDD-A274B162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31AE-715C-4216-B27D-F808B387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3CFFC-8DE3-4529-A491-C7B78B00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92EF3-2BEB-4974-9CB1-A1199C7B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50205-92DC-4CC2-990C-261C0F42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84C28-B551-40AB-B163-5542CEA3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276EF-BE14-4FFB-9242-C0B28634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0C8A-165C-4800-B77D-309BB2E7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45CCC-83C8-4FC7-9DF7-8B220911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E9EF9-2442-4D5E-9BD8-F6A644AD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526F4-53E6-49F0-9719-150B33BE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2F7EE-1CCD-4503-8B71-D944C250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2109A-A6B7-4F5A-8B6A-F6D71F27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6FE6D-C3E0-47BC-A1A1-2CFAA8FB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B3F78-0ABE-489A-827C-B4C82E53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5F6-2029-479D-9397-06961FD1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875-9A87-4F04-AFA1-29F83CD6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0BF-A7DE-491B-AFD3-B37C3768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175-FED0-4A50-8070-EC5B3E56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40A-4EB2-49D0-92E4-91E32049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9605-F47F-465C-9FBC-8FE25E59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E152-EE76-4182-9C04-6481174E95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A4D0-AF62-4AF4-BFE7-8DB82DC84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18CD-529C-484F-B512-1E592FCB0D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191120" y="1828800"/>
            <a:ext cx="5257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543"/>
                </a:solidFill>
                <a:latin typeface="Arial Black"/>
              </a:rPr>
              <a:t>Elementary Egg Basic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981080" y="4800600"/>
            <a:ext cx="6782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reated by Connie P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manuel County Extension Ag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.O. Box 77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29 N. Anderson Driv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wainsboro, GA  3040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78-237-1226 FAX 478-237-845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niep@uga.ed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pril, 200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9" descr="img_egganatomy"/>
          <p:cNvPicPr/>
          <p:nvPr/>
        </p:nvPicPr>
        <p:blipFill>
          <a:blip r:embed="rId1"/>
          <a:stretch/>
        </p:blipFill>
        <p:spPr>
          <a:xfrm>
            <a:off x="304920" y="228600"/>
            <a:ext cx="4249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img_egganatomy"/>
          <p:cNvPicPr/>
          <p:nvPr/>
        </p:nvPicPr>
        <p:blipFill>
          <a:blip r:embed="rId1"/>
          <a:stretch/>
        </p:blipFill>
        <p:spPr>
          <a:xfrm>
            <a:off x="533520" y="457200"/>
            <a:ext cx="1904760" cy="2562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666880" y="244440"/>
            <a:ext cx="6175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= Sh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00040" y="1523880"/>
            <a:ext cx="5645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de of 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n’s diet must have 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evaporation of water from albumen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ed with natural bl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m replaced by thin coating of oil after was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52320" y="244440"/>
            <a:ext cx="54896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 = Air C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9000" y="1523520"/>
            <a:ext cx="5105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ed when contents of egg cool and con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shell membrane from sh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ted only in large end of e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ws larger over time as water evaporates from e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 indicates interior egg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9" descr="img_egganatomy"/>
          <p:cNvPicPr/>
          <p:nvPr/>
        </p:nvPicPr>
        <p:blipFill>
          <a:blip r:embed="rId1"/>
          <a:stretch/>
        </p:blipFill>
        <p:spPr>
          <a:xfrm>
            <a:off x="380880" y="304920"/>
            <a:ext cx="2606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14800" y="244440"/>
            <a:ext cx="47275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 = Yo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8120" y="1371240"/>
            <a:ext cx="5797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pended in center of e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s yellow color from xanthrophyll in hen’s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s germinal disc – where baby chick development st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rounded by yolk membr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attens over time as quality of egg less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8" descr="img_egganatomy"/>
          <p:cNvPicPr/>
          <p:nvPr/>
        </p:nvPicPr>
        <p:blipFill>
          <a:blip r:embed="rId1"/>
          <a:stretch/>
        </p:blipFill>
        <p:spPr>
          <a:xfrm>
            <a:off x="155520" y="46080"/>
            <a:ext cx="24019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520" y="304560"/>
            <a:ext cx="6556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 = Yolk Membr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123720" y="2514600"/>
            <a:ext cx="5721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rounds Yo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s yolk and albumen separ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img_egganatomy"/>
          <p:cNvPicPr/>
          <p:nvPr/>
        </p:nvPicPr>
        <p:blipFill>
          <a:blip r:embed="rId1"/>
          <a:stretch/>
        </p:blipFill>
        <p:spPr>
          <a:xfrm>
            <a:off x="0" y="0"/>
            <a:ext cx="24019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2320" y="244440"/>
            <a:ext cx="6480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 = Shell Membr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09320" y="1828440"/>
            <a:ext cx="6635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inner lining of sh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es from shell at large end of the egg to form the air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5" descr="img_egganatomy"/>
          <p:cNvPicPr/>
          <p:nvPr/>
        </p:nvPicPr>
        <p:blipFill>
          <a:blip r:embed="rId1"/>
          <a:stretch/>
        </p:blipFill>
        <p:spPr>
          <a:xfrm>
            <a:off x="155520" y="46080"/>
            <a:ext cx="1905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2320" y="244440"/>
            <a:ext cx="6480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 = Thin Albu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6559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white part of e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increases as thick albumen breaks down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is present in high quality e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is present in lower quality e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img_egganatomy"/>
          <p:cNvPicPr/>
          <p:nvPr/>
        </p:nvPicPr>
        <p:blipFill>
          <a:blip r:embed="rId1"/>
          <a:stretch/>
        </p:blipFill>
        <p:spPr>
          <a:xfrm>
            <a:off x="155520" y="46080"/>
            <a:ext cx="1905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14240" y="244440"/>
            <a:ext cx="6327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 = Chala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6635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ck strands of albumen that help center yo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ar as shiny spots when egg is cand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5" descr="img_egganatomy"/>
          <p:cNvPicPr/>
          <p:nvPr/>
        </p:nvPicPr>
        <p:blipFill>
          <a:blip r:embed="rId1"/>
          <a:stretch/>
        </p:blipFill>
        <p:spPr>
          <a:xfrm>
            <a:off x="152280" y="228600"/>
            <a:ext cx="1905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 = Thick Albu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5640" y="2057400"/>
            <a:ext cx="6559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ck white part of e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rounds yolk; nourishes developing embry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sh, high quality eggs have more thick albumen than thin albu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ars egg-shaped in high-quality, broken-out eg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img_egganatomy"/>
          <p:cNvPicPr/>
          <p:nvPr/>
        </p:nvPicPr>
        <p:blipFill>
          <a:blip r:embed="rId1"/>
          <a:stretch/>
        </p:blipFill>
        <p:spPr>
          <a:xfrm>
            <a:off x="155520" y="46080"/>
            <a:ext cx="1905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20:51:43Z</dcterms:created>
  <dc:creator>Sara Kahley</dc:creator>
  <dc:description/>
  <dc:language>en-US</dc:language>
  <cp:lastModifiedBy>Sara Kahley</cp:lastModifiedBy>
  <dcterms:modified xsi:type="dcterms:W3CDTF">2013-02-21T20:59:00Z</dcterms:modified>
  <cp:revision>1</cp:revision>
  <dc:subject/>
  <dc:title>PowerPoint Presentation</dc:title>
</cp:coreProperties>
</file>