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416-8A3B-4557-8616-E177DEA2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B54-DF2A-4D71-A046-8BEAF4CB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A79-4A8D-4DA4-8CE1-3ED4EBE2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124-EB6C-4BF9-B62E-4CCA949D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1922-9F26-4177-9CC1-5C7E9936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AEB7-A108-4AAD-AD3C-EAB8294E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107A-BBED-4664-AE8D-0BDB1D11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CD10-588C-4C56-A41F-BD65879E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DDF7-8789-4BF6-B2C0-03F5E410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2854-521B-4098-AC93-CB110A27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CD68-7017-481D-B54F-BEDB489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1D2-6025-46B6-8B2A-45B2413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2C86-B081-4016-BB0B-FFF9B4B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1C9B-18CA-4E61-A13D-E9869E2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2BA0-A4C4-4D50-84F0-9C3BB199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2091-725B-4653-9948-AA3763FB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A207-45E5-4D95-B8BA-5E7FE0E8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BAE0-B083-4425-AC93-E6D9ABA3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BABE-0C86-490F-8C1C-ADDB4F5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B427-2332-4CEC-956C-DD03999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40B4-854C-4B13-B5BC-E34A521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6C00-E866-4B8F-BC15-062CE8DB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946-B990-44A0-92AB-6E55FE13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83E1-FAC9-43D7-85D0-2F1C411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E796-9FE5-4715-B39C-5A9451D7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9AC4-1AB3-4207-AAAA-6EEBCC9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FA4F2-3A8B-4831-AC3B-8A339E0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AAA2-7AE9-4895-B577-C7E357A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B0B2-1198-46D2-8E83-BE72AEAA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2954-646E-4B3B-AEAE-70872124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051-D966-4A2F-8BC0-86F90D44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8F8-7E06-4704-8B0B-2DB23519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C72-9A70-4E48-B112-F08AFE15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92A-5945-4B19-ACF8-5E46A047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325-EFD0-4566-9B66-494DCC87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C00-F57C-43BD-9D89-C25D544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A2C1-A26D-40E8-B087-7CC47BD27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D3EC-1273-49F1-88F7-061777753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6542-7218-42E6-AC7C-A408CEBA2A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91120" y="1828800"/>
            <a:ext cx="525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543"/>
                </a:solidFill>
                <a:latin typeface="Arial Black"/>
              </a:rPr>
              <a:t>Elementary Egg Basic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981080" y="4800600"/>
            <a:ext cx="6782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reated by Connie P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manuel County Extension Ag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.O. Box 77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9 N. Anderson Dr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wainsboro, GA  304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78-237-1226 FAX 478-237-845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niep@uga.ed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pril, 200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9" descr="img_egganatomy"/>
          <p:cNvPicPr/>
          <p:nvPr/>
        </p:nvPicPr>
        <p:blipFill>
          <a:blip r:embed="rId1"/>
          <a:stretch/>
        </p:blipFill>
        <p:spPr>
          <a:xfrm>
            <a:off x="304920" y="228600"/>
            <a:ext cx="4249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g_egganatomy"/>
          <p:cNvPicPr/>
          <p:nvPr/>
        </p:nvPicPr>
        <p:blipFill>
          <a:blip r:embed="rId1"/>
          <a:stretch/>
        </p:blipFill>
        <p:spPr>
          <a:xfrm>
            <a:off x="533520" y="457200"/>
            <a:ext cx="1904760" cy="2562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66880" y="244440"/>
            <a:ext cx="61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= Sh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0040" y="1523880"/>
            <a:ext cx="564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’s diet must have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evaporation of water from albumen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ed with natural bl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m replaced by thin coating of oil after was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52320" y="244440"/>
            <a:ext cx="5489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 = Air C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9000" y="15235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ed when contents of egg cool and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shell membrane from sh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ed only in large end of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s larger over time as water evaporates from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 indicates interior egg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9" descr="img_egganatomy"/>
          <p:cNvPicPr/>
          <p:nvPr/>
        </p:nvPicPr>
        <p:blipFill>
          <a:blip r:embed="rId1"/>
          <a:stretch/>
        </p:blipFill>
        <p:spPr>
          <a:xfrm>
            <a:off x="380880" y="304920"/>
            <a:ext cx="2606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14800" y="244440"/>
            <a:ext cx="4727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 = Yo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8120" y="1371240"/>
            <a:ext cx="579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pended in center of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s yellow color from xanthrophyll in hen’s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s germinal disc – where baby chick development st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rounded by yolk membr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ttens over time as quality of egg less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8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2401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6556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 = Yolk Membr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23720" y="2514600"/>
            <a:ext cx="5721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s Y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s yolk and albumen sepa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img_egganatomy"/>
          <p:cNvPicPr/>
          <p:nvPr/>
        </p:nvPicPr>
        <p:blipFill>
          <a:blip r:embed="rId1"/>
          <a:stretch/>
        </p:blipFill>
        <p:spPr>
          <a:xfrm>
            <a:off x="0" y="0"/>
            <a:ext cx="2401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244440"/>
            <a:ext cx="648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 = Shell Membr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09320" y="1828440"/>
            <a:ext cx="663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inner lining of sh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s from shell at large end of the egg to form the air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2320" y="244440"/>
            <a:ext cx="648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 = Thin Albu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6559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white part of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increases as thick albumen breaks down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is present in high quality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is present in lower quality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4240" y="244440"/>
            <a:ext cx="6327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 = Chala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6635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strands of albumen that help center y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 as shiny spots when egg is cand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img_egganatomy"/>
          <p:cNvPicPr/>
          <p:nvPr/>
        </p:nvPicPr>
        <p:blipFill>
          <a:blip r:embed="rId1"/>
          <a:stretch/>
        </p:blipFill>
        <p:spPr>
          <a:xfrm>
            <a:off x="152280" y="22860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 = Thick Albu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6559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white part of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s yolk; nourishes developing embry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sh, high quality eggs have more thick albumen than thin albu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s egg-shaped in high-quality, broken-out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img_egganatomy"/>
          <p:cNvPicPr/>
          <p:nvPr/>
        </p:nvPicPr>
        <p:blipFill>
          <a:blip r:embed="rId1"/>
          <a:stretch/>
        </p:blipFill>
        <p:spPr>
          <a:xfrm>
            <a:off x="155520" y="46080"/>
            <a:ext cx="1905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0:51:43Z</dcterms:created>
  <dc:creator>Sara Kahley</dc:creator>
  <dc:description/>
  <dc:language>en-US</dc:language>
  <cp:lastModifiedBy>Sara Kahley</cp:lastModifiedBy>
  <dcterms:modified xsi:type="dcterms:W3CDTF">2013-02-21T20:59:00Z</dcterms:modified>
  <cp:revision>1</cp:revision>
  <dc:subject/>
  <dc:title>PowerPoint Presentation</dc:title>
</cp:coreProperties>
</file>